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5111-70DF-4802-B22E-49493A66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BB6-BCBF-4D58-91AE-6EE4F4B8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668-F44F-41AC-8784-228A549D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22D-5503-4489-B396-DCCE35B1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9F4-986F-43B2-AF47-3CB8DC98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EC9-301C-4786-BC47-8B67A886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8FA2-65E7-4BC5-AD0F-AE1016F4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756C-5499-41BD-9F9C-72F421A1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F07D-12D1-46A2-9C72-E1092C9F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0C36-E671-41BC-B65A-39BD04C3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7D0-BDB2-4A2A-BBB8-18D8B296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3BC4-AE59-4E86-B263-DA6A369D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FBB1-4837-45FE-9AFB-CB8E3B9A1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715000" y="525780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tichi Go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 I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is N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6902"/>
          <a:stretch/>
        </p:blipFill>
        <p:spPr>
          <a:xfrm>
            <a:off x="304920" y="1219320"/>
            <a:ext cx="298296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4952880"/>
            <a:ext cx="3352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E 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03880" y="1712880"/>
            <a:ext cx="397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ports Bet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re complicated ma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uch should I bet on each outc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 to maximize the worse case scenario (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438280" y="2971800"/>
                <a:ext cx="40388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Θ</m:t>
                                </m:r>
                              </m:e>
                            </m:nary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57200" y="42670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48006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fined as odds for outcome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d as the wager placed on outcome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29718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62640" y="29718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704960"/>
            <a:ext cx="82296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ction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od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30520" y="1600200"/>
            <a:ext cx="5681520" cy="4525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62520" y="1523880"/>
            <a:ext cx="1523880" cy="4724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ver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62120" y="1447920"/>
            <a:ext cx="7619760" cy="5028840"/>
            <a:chOff x="762120" y="1447920"/>
            <a:chExt cx="7619760" cy="5028840"/>
          </a:xfrm>
        </p:grpSpPr>
        <p:grpSp>
          <p:nvGrpSpPr>
            <p:cNvPr id="82" name=""/>
            <p:cNvGrpSpPr/>
            <p:nvPr/>
          </p:nvGrpSpPr>
          <p:grpSpPr>
            <a:xfrm>
              <a:off x="762120" y="1447920"/>
              <a:ext cx="7619760" cy="5028840"/>
              <a:chOff x="762120" y="1447920"/>
              <a:chExt cx="7619760" cy="502884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762120" y="1447920"/>
                <a:ext cx="7619760" cy="4148640"/>
                <a:chOff x="762120" y="1447920"/>
                <a:chExt cx="7619760" cy="4148640"/>
              </a:xfrm>
            </p:grpSpPr>
            <p:pic>
              <p:nvPicPr>
                <p:cNvPr id="8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62120" y="1447920"/>
                  <a:ext cx="7619760" cy="414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"/>
                <p:cNvSpPr txBox="1"/>
                <p:nvPr/>
              </p:nvSpPr>
              <p:spPr>
                <a:xfrm>
                  <a:off x="762120" y="1447920"/>
                  <a:ext cx="7619760" cy="41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rm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799"/>
                    </a:spcBef>
                    <a:buClr>
                      <a:srgbClr val="000000"/>
                    </a:buClr>
                    <a:buFont typeface="Calibri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6" name="" descr=""/>
              <p:cNvPicPr/>
              <p:nvPr/>
            </p:nvPicPr>
            <p:blipFill>
              <a:blip r:embed="rId2"/>
              <a:srcRect l="0" t="67853" r="0" b="0"/>
              <a:stretch/>
            </p:blipFill>
            <p:spPr>
              <a:xfrm>
                <a:off x="762120" y="5119200"/>
                <a:ext cx="7619760" cy="135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3"/>
              <a:srcRect l="59816" t="53559" r="34994" b="42003"/>
              <a:stretch/>
            </p:blipFill>
            <p:spPr>
              <a:xfrm>
                <a:off x="6970680" y="4032360"/>
                <a:ext cx="1269720" cy="1257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8" name="" descr=""/>
            <p:cNvPicPr/>
            <p:nvPr/>
          </p:nvPicPr>
          <p:blipFill>
            <a:blip r:embed="rId4"/>
            <a:srcRect l="59816" t="53559" r="34994" b="42003"/>
            <a:stretch/>
          </p:blipFill>
          <p:spPr>
            <a:xfrm>
              <a:off x="5418360" y="5149800"/>
              <a:ext cx="1411200" cy="1117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pport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520" y="1219320"/>
            <a:ext cx="8076960" cy="5343480"/>
            <a:chOff x="533520" y="1219320"/>
            <a:chExt cx="8076960" cy="5343480"/>
          </a:xfrm>
        </p:grpSpPr>
        <p:pic>
          <p:nvPicPr>
            <p:cNvPr id="91" name="" descr=""/>
            <p:cNvPicPr/>
            <p:nvPr/>
          </p:nvPicPr>
          <p:blipFill>
            <a:blip r:embed="rId1"/>
            <a:srcRect l="3704" t="0" r="36112" b="27604"/>
            <a:stretch/>
          </p:blipFill>
          <p:spPr>
            <a:xfrm>
              <a:off x="533520" y="1219320"/>
              <a:ext cx="8076960" cy="534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 txBox="1"/>
            <p:nvPr/>
          </p:nvSpPr>
          <p:spPr>
            <a:xfrm>
              <a:off x="533520" y="1219320"/>
              <a:ext cx="8076960" cy="534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aking it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er chose the best odds for each possible 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er placed the optimal bet on each possible outcome while being constrained by the individual account bal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er maximized the risk free profi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gots 25 guys doing this al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bye student loans, job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lo good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19408" t="20668" r="16522" b="10002"/>
          <a:stretch/>
        </p:blipFill>
        <p:spPr>
          <a:xfrm>
            <a:off x="2133720" y="1981080"/>
            <a:ext cx="640080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317760" cy="4190760"/>
          </a:xfrm>
          <a:prstGeom prst="rect">
            <a:avLst/>
          </a:prstGeom>
          <a:ln w="0">
            <a:noFill/>
          </a:ln>
        </p:spPr>
      </p:pic>
      <p:sp>
        <p:nvSpPr>
          <p:cNvPr id="46" name="PubOvalCallout"/>
          <p:cNvSpPr/>
          <p:nvPr/>
        </p:nvSpPr>
        <p:spPr>
          <a:xfrm>
            <a:off x="3429000" y="1371600"/>
            <a:ext cx="5105520" cy="2133720"/>
          </a:xfrm>
          <a:custGeom>
            <a:avLst/>
            <a:gdLst>
              <a:gd name="textAreaLeft" fmla="*/ 747360 w 5105520"/>
              <a:gd name="textAreaRight" fmla="*/ 4358160 w 5105520"/>
              <a:gd name="textAreaTop" fmla="*/ 234360 h 2133720"/>
              <a:gd name="textAreaBottom" fmla="*/ 136692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RBITR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mbl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gam –m- BLING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gin 1880-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d English: The surest way of getting nothing from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entence use: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I pissed all my cash away gambling on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ccer [sock-her]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igin 1880-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d English: called futbol in any and all countries using the metric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entence use: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 Dude: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That's not football, you idiot. It's soc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b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igh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ian handi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/U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phisticated two-way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implied volatility is quo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75" t="16889" r="33838" b="16221"/>
          <a:stretch/>
        </p:blipFill>
        <p:spPr>
          <a:xfrm>
            <a:off x="3809880" y="1447920"/>
            <a:ext cx="51530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generate Gambler B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d/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player to 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co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co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off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 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 b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32684" t="19777" r="22296" b="7336"/>
          <a:stretch/>
        </p:blipFill>
        <p:spPr>
          <a:xfrm>
            <a:off x="4562640" y="1676520"/>
            <a:ext cx="4276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dds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i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20782" t="26664" r="21475" b="15574"/>
          <a:stretch/>
        </p:blipFill>
        <p:spPr>
          <a:xfrm>
            <a:off x="304920" y="1295280"/>
            <a:ext cx="84549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ight-up Arbit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possible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 on highest odds for each possible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will pay the v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29221" t="42003" r="28645" b="38446"/>
          <a:stretch/>
        </p:blipFill>
        <p:spPr>
          <a:xfrm>
            <a:off x="380880" y="4191120"/>
            <a:ext cx="8001000" cy="241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43400" y="52578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52578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a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outcome arbitrage possible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514600" y="2514600"/>
                <a:ext cx="34653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533520" y="44197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d as odds for outcom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0:42:24Z</dcterms:created>
  <dc:creator>Eftichi</dc:creator>
  <dc:description/>
  <dc:language>en-US</dc:language>
  <cp:lastModifiedBy>Eftichi</cp:lastModifiedBy>
  <dcterms:modified xsi:type="dcterms:W3CDTF">2009-12-14T18:43:22Z</dcterms:modified>
  <cp:revision>8</cp:revision>
  <dc:subject/>
  <dc:title>Slide 1</dc:title>
</cp:coreProperties>
</file>